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15.png" ContentType="image/png"/>
  <Override PartName="/ppt/media/image12.png" ContentType="image/png"/>
  <Override PartName="/ppt/media/image13.png" ContentType="image/png"/>
  <Override PartName="/ppt/media/image34.wmf" ContentType="image/x-wmf"/>
  <Override PartName="/ppt/media/image35.png" ContentType="image/png"/>
  <Override PartName="/ppt/media/image5.jpeg" ContentType="image/jpeg"/>
  <Override PartName="/ppt/media/image8.png" ContentType="image/png"/>
  <Override PartName="/ppt/media/image38.png" ContentType="image/png"/>
  <Override PartName="/ppt/media/image33.jpeg" ContentType="image/jpeg"/>
  <Override PartName="/ppt/media/image37.wmf" ContentType="image/x-wmf"/>
  <Override PartName="/ppt/media/image41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7.png" ContentType="image/png"/>
  <Override PartName="/ppt/media/image44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BA1-9E94-4F75-867C-8119CA2F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23520" y="425340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67E-97F0-4132-9BA1-571413EA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408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4E6-79E3-49F9-B1C1-36874CED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4524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6732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2352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4524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6732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742-49C3-4B7B-9DE4-F2732CEC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4FDB-2C8A-4C7A-948D-77FDE5D8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91BC6-D306-477C-A37D-7D4A1ED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927BE-6991-44F7-A602-B869A33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01613-C320-4F8C-9F34-187B8C7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5B14F-FA21-48C9-A3D9-127D0DF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8A082-AF74-4A43-83E4-1E660541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B7740-E85F-4A36-BCCA-B035477E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03A-172D-470E-B501-8051C0A4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9408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E8FE2-2E12-4541-A565-F0055814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38E6-EA76-4EB9-A57E-6834B657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23520" y="425340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8472-882D-4B08-9ABB-3B1CC23B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9408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AA1C0-6E21-4B39-889F-9C2E1E9C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4524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67320" y="190512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2352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4524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67320" y="4253400"/>
            <a:ext cx="230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AADB6-6CBE-4F6B-8DE4-746C0EAF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DE8-7BEE-4174-9419-419EE018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88A-D5B9-406D-A429-591E0F05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7EE-41E7-4FCC-AA5A-E3A96B6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379-B7EE-4424-8800-0BC0154E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5F4-15B1-4E59-B3CC-CA5C5D1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4080" y="425340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3DB-16F1-441C-9DE9-78F16E8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4080" y="1905120"/>
            <a:ext cx="3495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253400"/>
            <a:ext cx="7162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E1B-CFFF-4E72-AC9E-0C36A29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972"/>
                </a:gs>
                <a:gs pos="100000">
                  <a:srgbClr val="0029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972"/>
                </a:gs>
                <a:gs pos="100000">
                  <a:srgbClr val="0029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5235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7743-FAB6-47B3-A0FC-303296430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456a8f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371600"/>
            <a:ext cx="9144000" cy="15228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352680" y="0"/>
            <a:ext cx="5791320" cy="1219320"/>
          </a:xfrm>
          <a:prstGeom prst="rect">
            <a:avLst/>
          </a:prstGeom>
          <a:gradFill rotWithShape="0">
            <a:gsLst>
              <a:gs pos="0">
                <a:srgbClr val="00162d"/>
              </a:gs>
              <a:gs pos="100000">
                <a:srgbClr val="0039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2d5c8a"/>
              </a:gs>
              <a:gs pos="100000">
                <a:srgbClr val="00397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33520" y="1752480"/>
            <a:ext cx="609480" cy="609840"/>
          </a:xfrm>
          <a:prstGeom prst="rect">
            <a:avLst/>
          </a:prstGeom>
          <a:gradFill rotWithShape="0">
            <a:gsLst>
              <a:gs pos="0">
                <a:srgbClr val="42688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33520" y="2895480"/>
            <a:ext cx="609480" cy="609840"/>
          </a:xfrm>
          <a:prstGeom prst="rect">
            <a:avLst/>
          </a:prstGeom>
          <a:gradFill rotWithShape="0">
            <a:gsLst>
              <a:gs pos="0">
                <a:srgbClr val="42688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533520" y="4038480"/>
            <a:ext cx="609480" cy="609840"/>
          </a:xfrm>
          <a:prstGeom prst="rect">
            <a:avLst/>
          </a:prstGeom>
          <a:gradFill rotWithShape="0">
            <a:gsLst>
              <a:gs pos="0">
                <a:srgbClr val="42688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5105520"/>
            <a:ext cx="609480" cy="609480"/>
          </a:xfrm>
          <a:prstGeom prst="rect">
            <a:avLst/>
          </a:prstGeom>
          <a:gradFill rotWithShape="0">
            <a:gsLst>
              <a:gs pos="0">
                <a:srgbClr val="42688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6027" h="2296">
                <a:moveTo>
                  <a:pt x="6027" y="2296"/>
                </a:moveTo>
                <a:lnTo>
                  <a:pt x="0" y="2296"/>
                </a:lnTo>
                <a:lnTo>
                  <a:pt x="0" y="0"/>
                </a:lnTo>
                <a:lnTo>
                  <a:pt x="6027" y="0"/>
                </a:lnTo>
                <a:lnTo>
                  <a:pt x="6027" y="2296"/>
                </a:lnTo>
                <a:lnTo>
                  <a:pt x="6027" y="2296"/>
                </a:lnTo>
                <a:close/>
              </a:path>
            </a:pathLst>
          </a:cu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6E6D-A168-465A-A4DB-F405D24E0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91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mSun"/>
                <a:ea typeface="SimSun"/>
              </a:rPr>
              <a:t>www.bysoftinc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-974" r="28364" b="3927"/>
          <a:stretch/>
        </p:blipFill>
        <p:spPr>
          <a:xfrm>
            <a:off x="0" y="0"/>
            <a:ext cx="4343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67080" y="0"/>
            <a:ext cx="4876920" cy="20574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057400"/>
            <a:ext cx="9144000" cy="152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42688d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09680"/>
            <a:ext cx="9144000" cy="15264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ysoftinc.com/images/byvision/well_dis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8108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egrated Application Data 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251460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971800"/>
            <a:ext cx="2286000" cy="1693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5880" y="2971800"/>
            <a:ext cx="210816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D Visualiz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763640"/>
            <a:ext cx="502920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ender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D track ball 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, zoom in, zoom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cing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D data analy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color bar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Attribut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90960" y="2209680"/>
            <a:ext cx="3151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taneous solid and transparency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surface, contour, ligh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ve Picking Cap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between surface and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75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80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D Visualiz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57680" y="2158920"/>
            <a:ext cx="4152600" cy="307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895480" y="2057400"/>
          <a:ext cx="251460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25146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638680" y="2057400"/>
            <a:ext cx="2514600" cy="1852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638680" y="4191120"/>
            <a:ext cx="2586240" cy="21715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graphicFrame>
        <p:nvGraphicFramePr>
          <p:cNvPr id="190" name=""/>
          <p:cNvGraphicFramePr/>
          <p:nvPr/>
        </p:nvGraphicFramePr>
        <p:xfrm>
          <a:off x="2895480" y="4191120"/>
          <a:ext cx="2498760" cy="21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191120"/>
                    <a:ext cx="249876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9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ous Data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666880" y="3746520"/>
            <a:ext cx="2667240" cy="2573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1981440" cy="1463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638680" y="2590920"/>
            <a:ext cx="2590920" cy="21556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02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2286000" cy="1393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486400" y="46483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895480" y="1676520"/>
            <a:ext cx="3733920" cy="266364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11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0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togram Multi-Volum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95480" y="1744560"/>
            <a:ext cx="2455920" cy="259884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1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0"/>
            <a:ext cx="706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Vis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Gall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334120" y="1731960"/>
            <a:ext cx="3200400" cy="2763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rot="21480600">
            <a:off x="5410080" y="4419720"/>
            <a:ext cx="2590920" cy="19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895480" y="4335480"/>
          <a:ext cx="2590920" cy="221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4335480"/>
                    <a:ext cx="259092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1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1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60020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ple Horizons in Different Mod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o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id Mes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440" indent="-36540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iang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fined Data Hand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uniform mesh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t, copy, and pas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s Edi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and Continuous Color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05120"/>
            <a:ext cx="3962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al-time Mathematic Computatio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multiple langu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Vector meta file saving capabil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Linear and log sca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Surface format conver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Geography map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Image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30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Horiz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-D Visualiz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2971800" cy="2044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2362320"/>
            <a:ext cx="2990880" cy="1984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05120" y="2590920"/>
            <a:ext cx="32004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form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 Brush ed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39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Horiz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-D Visualiz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514600" cy="1712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019920" y="3859200"/>
            <a:ext cx="2657520" cy="2427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514600" y="2527200"/>
            <a:ext cx="3124080" cy="25974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4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Horiz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Galler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904760" y="1980720"/>
            <a:ext cx="31827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pled and/or XY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ic or dynamic dat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ple curves and multiple axes vie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rizontal or vertical lay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ea picking, editing, interpolation, smooth, analysis, and curve fit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1905120"/>
            <a:ext cx="365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how, add, delete, and modify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arkers and annotation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arious backgroun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Vector meta file saving capabil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race displ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ensity displ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56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Graph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ve Data Analysi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bout BYSoft Inc.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knowledge in Geosc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 software development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que approach to integrating data visualization, analysis, and interpre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n track record with major oil and service compan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l-designed for multiple language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s well-received in the oil &amp; gas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 products and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06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943600" y="2286000"/>
            <a:ext cx="266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mpled and Ran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955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e9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048120" cy="205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2853000" cy="206208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133720" y="48769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multiple curves with different starting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67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Graph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D Data Analysi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552720" y="2285640"/>
            <a:ext cx="16002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ves in Density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038840" cy="2747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489120" cy="249876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76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Graph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D Data Analysi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981080" y="159984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Y 2D, 3D, shot/CDP data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 and wiggle or b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or multiple ensem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map edit, statistics info,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, cut and paste, drag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er information view and 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, horizon/fault picking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language annotatio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web servic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ctor Image and pri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8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Seis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ismic Data View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90560" y="1828440"/>
            <a:ext cx="198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ggle and Dens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438280" y="3962520"/>
          <a:ext cx="2898720" cy="22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962520"/>
                    <a:ext cx="289872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334120" y="1793880"/>
            <a:ext cx="3181320" cy="2021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791320" y="434340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eismic data as background with lo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295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Seis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ismic Data View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Log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LAS file forma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track, linear/log scale, 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Setting save and im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image format and prin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, zoom and curve set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ve editing, Zon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D and 2D data se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, Pattern, image and core image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web servic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language annotat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Time math operation/Clipboar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0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405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Log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r and Logscale with pattern fi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2800440" cy="2938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56272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ho info with pattern fi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1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1120" y="152280"/>
            <a:ext cx="698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Log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8640" y="198072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2D Data, cross plo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3353040" cy="300348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21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133720" y="1828440"/>
            <a:ext cx="2984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centage or fraction mo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cision defin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urth value in the dia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Add, delete, and edit point proper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Import and export ASCII data 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1981080"/>
            <a:ext cx="3429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Create and edit multiple symbols and color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Show title and lege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Edit axis and graph proper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SimSun"/>
              </a:rPr>
              <a:t>Save images into a vector meta fil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2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Triangle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Component Vie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590560" y="28191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362320" y="4010040"/>
            <a:ext cx="3200400" cy="2367000"/>
          </a:xfrm>
          <a:prstGeom prst="rect">
            <a:avLst/>
          </a:prstGeom>
          <a:ln w="19080">
            <a:solidFill>
              <a:srgbClr val="f0b976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200400" cy="2341440"/>
          </a:xfrm>
          <a:prstGeom prst="rect">
            <a:avLst/>
          </a:prstGeom>
          <a:ln w="19080">
            <a:solidFill>
              <a:srgbClr val="f0b976"/>
            </a:solidFill>
            <a:miter/>
          </a:ln>
        </p:spPr>
      </p:pic>
      <p:sp>
        <p:nvSpPr>
          <p:cNvPr id="336" name=""/>
          <p:cNvSpPr/>
          <p:nvPr/>
        </p:nvSpPr>
        <p:spPr>
          <a:xfrm>
            <a:off x="5791320" y="4800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 pi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3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Triangle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Component Vie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676160" y="16761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Email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RichardXu@bysoftinc.com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info@bysoftinc.co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Phone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001) 713-776-111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Web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ww.bysoftinc.com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Mailing Addres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.O. Box 1305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fford, TX 77497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Office Location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855 Sovereign, Suite 10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ouston, Texas, 77036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345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ontact Information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or Concerns?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828800" y="159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ize and analyze different data sets to achieve an integrated data interpretation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engineers to concentrate on what they do best: computation instead of visu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 the gap between engineers an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low cost custom solutions through component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2920" y="1828800"/>
            <a:ext cx="1676160" cy="396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522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ow BYSoft Can Help 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14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ome  of Our Clien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47719" b="0"/>
          <a:stretch/>
        </p:blipFill>
        <p:spPr>
          <a:xfrm>
            <a:off x="5486400" y="3276720"/>
            <a:ext cx="1673280" cy="846000"/>
          </a:xfrm>
          <a:prstGeom prst="rect">
            <a:avLst/>
          </a:prstGeom>
          <a:ln w="25560">
            <a:solidFill>
              <a:srgbClr val="003366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2590920" cy="863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292200" cy="525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86000" y="2590920"/>
            <a:ext cx="2590920" cy="6300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743200" y="1828800"/>
            <a:ext cx="2905200" cy="361800"/>
          </a:xfrm>
          <a:prstGeom prst="rect">
            <a:avLst/>
          </a:prstGeom>
          <a:ln w="25560">
            <a:solidFill>
              <a:srgbClr val="003366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971800" y="5638680"/>
            <a:ext cx="2971800" cy="27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781680" y="4876920"/>
            <a:ext cx="990720" cy="1095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6" name="" descr="Petris"/>
          <p:cNvPicPr/>
          <p:nvPr/>
        </p:nvPicPr>
        <p:blipFill>
          <a:blip r:embed="rId8"/>
          <a:stretch/>
        </p:blipFill>
        <p:spPr>
          <a:xfrm>
            <a:off x="3733920" y="4572000"/>
            <a:ext cx="1566720" cy="6951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28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799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799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299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799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299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99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78128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YSoft’s Achievements</a:t>
            </a:r>
            <a:br>
              <a:rPr sz="4000"/>
            </a:b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Productivity &amp; Reduce Cos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1600200"/>
            <a:ext cx="6933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Auto Report system to reduce a week long report time to 1 day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ker Hug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llibur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ineers to simulate well logging response for various tools and environments to create better tools make a better surve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ed Shell researchers quickly set up complicated 3D models to simulate well respon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36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9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ata Visualiz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6834240" cy="47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Soft’s technology empowers you to perfor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software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quality control an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 reporting and repor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ervices to remotely view geoscienc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D, 2D, 3D, and multi-D data visualization for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referencing related but differing data views to gain better insight into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4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3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BYSoft Products</a:t>
            </a:r>
            <a:br>
              <a:rPr sz="3600"/>
            </a:b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ization, Analysis, Edit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5105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Graph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hart, function viewer/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Horiz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Horizon viewer/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Vis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multi-D data visu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Triangl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rnary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Se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Seismic data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Log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Well log data viewer/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Map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GIS horizon/fault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BYColorEdi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lor map 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477120" y="1828800"/>
            <a:ext cx="2209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oolk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Math Parser: </a:t>
            </a:r>
            <a:r>
              <a:rPr b="0" i="1" lang="en-US" sz="1600" spc="-1" strike="noStrike">
                <a:solidFill>
                  <a:srgbClr val="dddddd"/>
                </a:solidFill>
                <a:latin typeface="Arial"/>
              </a:rPr>
              <a:t>Real time mathematic </a:t>
            </a:r>
            <a:r>
              <a:rPr b="0" i="1" lang="en-US" sz="1600" spc="-1" strike="noStrike">
                <a:solidFill>
                  <a:srgbClr val="dddddd"/>
                </a:solidFill>
                <a:latin typeface="Arial"/>
                <a:ea typeface="SimSun"/>
              </a:rPr>
              <a:t>computation</a:t>
            </a:r>
            <a:r>
              <a:rPr b="0" lang="en-US" sz="1600" spc="-1" strike="noStrike">
                <a:solidFill>
                  <a:srgbClr val="dddddd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Horizon and volume reader/wri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SEGY reader/wri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Report Gen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Data Converter and Analyz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487692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GeoVi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Visualization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53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egrated Visualiz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1752120"/>
            <a:ext cx="603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an be directly moved from BYSeis or BYLog into BYGraph for analysis and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D models can be connected with a 2D cross-section and a 1D graph for multiple data vie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 picking and backtracking to original data view can provide a robust neural network pattern recognition tann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time math engine gives an edge on data analysis and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60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0800" y="-36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vantag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GL direct hardware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u-driven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ctor meta file and print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format configuration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peg, png, bmp, emf, tiff, gif…) support for auto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development language support (C#, C++, FORTRAN, VB, script…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Language notation (unicode)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web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, 2000 and XP platform 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 compatibility through Win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1066680" cy="3949560"/>
            <a:chOff x="304920" y="1676520"/>
            <a:chExt cx="1066680" cy="3949560"/>
          </a:xfrm>
        </p:grpSpPr>
        <p:sp>
          <p:nvSpPr>
            <p:cNvPr id="167" name=""/>
            <p:cNvSpPr/>
            <p:nvPr/>
          </p:nvSpPr>
          <p:spPr>
            <a:xfrm>
              <a:off x="457200" y="1676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About BY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3048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Impact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920" y="4191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Feat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25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9T21:22:44Z</dcterms:created>
  <dc:creator>Diane Cunningham</dc:creator>
  <dc:description/>
  <dc:language>en-US</dc:language>
  <cp:lastModifiedBy>RichardXu</cp:lastModifiedBy>
  <dcterms:modified xsi:type="dcterms:W3CDTF">2005-07-02T21:49:23Z</dcterms:modified>
  <cp:revision>219</cp:revision>
  <dc:subject/>
  <dc:title>Slide 1</dc:title>
</cp:coreProperties>
</file>